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jpeg" ContentType="image/jpeg"/>
  <Override PartName="/ppt/media/type.wav" ContentType="audio/x-wav"/>
  <Override PartName="/ppt/media/image2.jpeg" ContentType="image/jpeg"/>
  <Override PartName="/ppt/media/image1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gif" ContentType="image/gif"/>
  <Override PartName="/ppt/media/chimes.wav" ContentType="audio/x-wav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5A5-3AC8-445D-B185-81B14ED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4F1-13E3-42DB-ADF1-40D57836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588-5A3C-4E9A-99C5-147C21DB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C3B-164E-4371-9424-66E405EA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6D38-49ED-4174-8024-8B2CB921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AB8C-A7D7-4077-BCE9-0585EA3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CA1-2D3D-4E43-A053-4191A1EE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D35-1D29-4C34-8F05-138CEDD4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B483-6AC0-4FEF-A1DB-6FDADC0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CE3-F4BD-4522-87C1-470E187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C4D6-625A-43C0-A830-309C74E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E54-EE28-4C09-A9E9-E0E16EC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F79C-7E6D-443A-ADE8-9A909A0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A26-66C6-4CF6-BF3E-73F0AC4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F70D-A67E-40B7-9A82-FF151AD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11A-D959-4F30-9921-DF26EC59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2385-66A8-46FF-99F2-672A2CA1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3F2-A07E-42CC-A6E7-B851BEB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97A-8C97-4AD8-A619-22E40B3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ED3-B132-464D-9AD3-90EECE22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D11-5568-444B-B9AF-FEBA7CBA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2A0-6940-495B-B48E-B340EA0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DFF-80C8-4474-B1DD-BCE931A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E84-7FD5-416F-B0A3-7F5A66F5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6CA-7F1D-4B98-8F10-C5449A09AF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7C80-476A-437E-A49D-CC3CFF57EF2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6257;&#26399;&#27979;&#35797;&#25104;&#32489;2.xl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Rar$DI00.063/&#22914;&#20309;&#20570;&#26356;&#26377;&#38024;&#23545;&#24615;&#30340;&#25104;&#32489;&#20998;&#26512;.doc" TargetMode="External"/><Relationship Id="rId2" Type="http://schemas.openxmlformats.org/officeDocument/2006/relationships/hyperlink" Target="file:///../Local%20Settings/Temp/Rar$DI00.063/&#22914;&#20309;&#20570;&#26356;&#26377;&#38024;&#23545;&#24615;&#30340;&#25104;&#32489;&#20998;&#26512;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4572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我们明白备考就是要持续努力，努力就是为超越自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048120"/>
            <a:ext cx="678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那么，如何实现超越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暑期测试成绩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个别同学成绩起伏较大（假期补课状态？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一些同学在努力，目标明确，有很强的自主、自觉性，事实证明了他们的实力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部分同学在体验，目标不是很明确，只是认为自己在学就可以了，自我安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仍有一些同学在观望，看看其他人的表现！关键的是他本身就没有找到一个合适的榜样，自我解嘲！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562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可想而知，这三部分同学收获的结果肯定是不一样的吧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914400"/>
            <a:ext cx="4876920" cy="38098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给自己一个客观的评价一个正确的定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76720" y="260280"/>
            <a:ext cx="287964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心若在，梦就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358920" y="24346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冬天，猎人带着猎狗去打猎。猎人击中了兔子的后腿，受伤的兔子拼命地逃生，猎狗在后面穷追不舍。可是追了一阵子，兔子跑得越来越远了。猎狗知道实在是追不上了，只好悻悻地回到猎人身边。猎人生气地说：“你真没用，连一只受伤的兔子都追不到！”猎狗听了很不服气地解释：“我已经尽力而为了呀！”而兔子带着伤成功地逃生，回家后，兄弟们都围过来，惊讶地问它：“那只猎狗很凶呀，而你又是受了伤，你是怎么甩掉它的呢？”兔子说：“它是尽力而为，我可是竭尽全力呀！它没追上我，回去最多挨一顿骂，而我若不竭尽全力地跑，可就没命了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234936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决定一切：只要思想不滑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办法总比困难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思想不消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时学习定发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思想跟得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成绩定向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二）继续做好成绩曲线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1752480"/>
            <a:ext cx="7276680" cy="4454280"/>
            <a:chOff x="1066680" y="1752480"/>
            <a:chExt cx="7276680" cy="4454280"/>
          </a:xfrm>
        </p:grpSpPr>
        <p:sp>
          <p:nvSpPr>
            <p:cNvPr id="152" name=""/>
            <p:cNvSpPr/>
            <p:nvPr/>
          </p:nvSpPr>
          <p:spPr>
            <a:xfrm>
              <a:off x="2106000" y="4406400"/>
              <a:ext cx="5198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365920" y="1941840"/>
              <a:ext cx="0" cy="42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626560" y="43110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6240" y="4501080"/>
              <a:ext cx="649800" cy="4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46400" y="4406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276000" y="43110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795480" y="43110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316040" y="4311000"/>
              <a:ext cx="72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35880" y="43110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25400" y="4406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225400" y="4311000"/>
              <a:ext cx="72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875200" y="421668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16080" y="4501080"/>
              <a:ext cx="649800" cy="4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65880" y="4501080"/>
              <a:ext cx="77940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期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5120" y="4121640"/>
              <a:ext cx="1038240" cy="38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考试时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6560" y="1752480"/>
              <a:ext cx="103932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考试名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4121640"/>
              <a:ext cx="1039320" cy="9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你给自己的定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920" y="41216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5920" y="3742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5920" y="3268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5920" y="28900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5920" y="4785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365920" y="5164200"/>
              <a:ext cx="130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5920" y="54489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143000" y="1699200"/>
            <a:ext cx="6933240" cy="4655160"/>
            <a:chOff x="1143000" y="1699200"/>
            <a:chExt cx="6933240" cy="4655160"/>
          </a:xfrm>
        </p:grpSpPr>
        <p:sp>
          <p:nvSpPr>
            <p:cNvPr id="177" name=""/>
            <p:cNvSpPr/>
            <p:nvPr/>
          </p:nvSpPr>
          <p:spPr>
            <a:xfrm>
              <a:off x="2133360" y="4472640"/>
              <a:ext cx="495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380680" y="1897200"/>
              <a:ext cx="0" cy="44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629080" y="43732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5240" y="4571640"/>
              <a:ext cx="619200" cy="4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24440" y="4472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247920" y="43732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43280" y="43732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238640" y="4373280"/>
              <a:ext cx="3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34360" y="43732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472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05520" y="4373280"/>
              <a:ext cx="3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724720" y="42742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00240" y="4571640"/>
              <a:ext cx="619200" cy="4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9800" y="4571640"/>
              <a:ext cx="742680" cy="39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期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960" y="4175280"/>
              <a:ext cx="98928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考试时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9080" y="1699200"/>
              <a:ext cx="990360" cy="9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与平均分的差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4175280"/>
              <a:ext cx="990360" cy="79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你所在批次平均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0680" y="417528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0680" y="377964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0680" y="328392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80680" y="288792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80680" y="486900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380680" y="5264640"/>
              <a:ext cx="124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0680" y="556236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52840" y="1897560"/>
              <a:ext cx="99180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科目：语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二）继续做好成绩曲线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二）继续做好成绩曲线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如何做更有针对性的成绩分析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找出自己的优势和劣势，扬长补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出一个可行的近期计划（到１０月月考期间，你找到一到两个可提升的方面，作好规划并坚持认真实施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预计你１０月月考成绩能否在你的努力下有所体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自信 自律 自觉 自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十年寒窗磨一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非成败在今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拼一个春夏秋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搏一生无怨无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562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交流假期布置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8080" y="685800"/>
            <a:ext cx="2008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老鹰是世界上寿命最长的鸟类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它一生的年龄可达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22860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要活那么长的寿命，它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4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岁时必须做出困难却重要的决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当老鹰活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岁时，它的爪子开始老化，无法有效地抓住猎物。 它的啄变得又长又弯，几乎碰到胸膛。它的翅膀变得十分沉重，因为它的羽毛长得又浓又厚。使得飞翔十分吃力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       它只有两种选择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等死，或经过一个十分痛苦的更新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8088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15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天漫长的操练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它必须很努力地飞到山顶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在悬崖上筑巢。停留在那里，不得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老鹰首先用它的喙击打岩石，直到完全脱落。然后静静地等候新的喙长出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5120" y="609480"/>
            <a:ext cx="6781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它会用新长出的喙把指甲一根一根的拔出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当新的指甲长出来后，它们便把羽毛一根一根的拔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13716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个月以后，新的羽毛长出来了。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老鹰开始飞翔。 重新得力再过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3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年的岁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6094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在我们的生命中，有时候我们必须做出困难的决定。开始一个更新的过程。正象我们的高考备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我们必须经常的反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向高考看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以高考的要求来进行复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不断的改进提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4572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我们必须把对高考不利的习惯，懒散的习惯，统统改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!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使我们可以重新飞翔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只要我们愿意放下旧的包袱，愿意锻炼培养好的习惯，我们就能发挥我们的潜能，创造新的未来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中宋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762120"/>
            <a:ext cx="712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雄鹰再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7621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从上面的故事中，你想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676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超越，需要不断的反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超越，需要持续的努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429000"/>
            <a:ext cx="67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超越，需要坚强的毅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365720"/>
            <a:ext cx="69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超越，需要认真的品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1080" y="342900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</a:rPr>
              <a:t>月份月考成绩分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不断反思  不断进取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一）整体成绩分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9120" y="247320"/>
            <a:ext cx="7792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暑期测试的各科成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523880"/>
          <a:ext cx="7772400" cy="416088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10960"/>
                <a:gridCol w="1109880"/>
                <a:gridCol w="1111320"/>
                <a:gridCol w="11095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84088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暑期测试的成绩与高二期末考的比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523880"/>
          <a:ext cx="7772400" cy="41148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10960"/>
                <a:gridCol w="1109880"/>
                <a:gridCol w="1111320"/>
                <a:gridCol w="11095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数学成绩进步最大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语文成绩有所提高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政治地理基本正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外语历史问题突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486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学习的自觉性不够！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68200" y="0"/>
          <a:ext cx="8875800" cy="6743880"/>
        </p:xfrm>
        <a:graphic>
          <a:graphicData uri="http://schemas.openxmlformats.org/drawingml/2006/table">
            <a:tbl>
              <a:tblPr/>
              <a:tblGrid>
                <a:gridCol w="1774800"/>
                <a:gridCol w="1776600"/>
                <a:gridCol w="1773000"/>
                <a:gridCol w="1776600"/>
                <a:gridCol w="177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级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二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六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-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50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之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70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之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34120" y="0"/>
            <a:ext cx="0" cy="6858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4:06Z</dcterms:modified>
  <cp:revision>2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